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227-666E-49C1-B30B-30E989AE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0E5-A022-402C-B8C6-69029587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582-9935-49E8-8A92-EF39353E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6C2-D872-4A8E-A8CF-E822F40A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444-EF6E-40B6-A665-72773730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D2E-C31E-4EA5-B066-3BDEB7AC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E2D-5303-4CC6-9129-DB4F4164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62D-8E8E-4E8E-895F-40E8047F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5D2-0323-4D1E-A730-52F82E3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4BD-C9CE-4489-8726-C88996C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785-82E3-4304-A751-D7F5DB0B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A18-55C7-4636-8687-255BA14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161D-5023-49C1-9E2D-0F9DB2C6C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4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5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465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1:27:36Z</dcterms:created>
  <dc:creator> </dc:creator>
  <dc:description/>
  <dc:language>en-US</dc:language>
  <cp:lastModifiedBy> </cp:lastModifiedBy>
  <dcterms:modified xsi:type="dcterms:W3CDTF">2009-03-06T01:27:36Z</dcterms:modified>
  <cp:revision>1</cp:revision>
  <dc:subject/>
  <dc:title>Slide 1</dc:title>
</cp:coreProperties>
</file>